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6FC-D00D-4AE5-B704-82D74FB9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29AE-9382-4EC4-A81B-30C62040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721B-A3AC-41B4-9EF3-2ACE53BB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6466-4746-4E40-A3C1-41E3694E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C91-E6C8-445E-9BA8-FCBB8D8C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574-4D5E-470D-B888-66EA943D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7F4-76CB-423F-8443-E7C35D89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9E1-841A-4020-8E16-6669D414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408-6049-4735-8107-0A18F385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393-9642-4E72-90B6-859EB442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7E8-B606-4CD0-8F13-E376B263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30E7-4548-4ED1-B0FD-AA0A560E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452D-EFBD-427F-A609-BC3B33D923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23:38Z</dcterms:created>
  <dc:creator> </dc:creator>
  <dc:description/>
  <dc:language>en-US</dc:language>
  <cp:lastModifiedBy> </cp:lastModifiedBy>
  <dcterms:modified xsi:type="dcterms:W3CDTF">2007-12-28T00:24:58Z</dcterms:modified>
  <cp:revision>1</cp:revision>
  <dc:subject/>
  <dc:title>Slide 1</dc:title>
</cp:coreProperties>
</file>