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3E1-A7F2-432E-BE95-AF0AB3AA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A37-9B9D-4ED8-8564-792D2012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0AF-F075-4B49-A755-0B02E493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A72-2905-4DED-B7BE-2CEDEF80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B03-4C0F-49B0-AE71-B776495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A14-FDFE-4E27-8A95-5AE15EFA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DA9-9692-48D4-ADF4-7313DB2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AC9-F987-40C5-B2FE-732E31F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183-270F-48B2-8229-00CB4C3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754-45C0-420F-AD69-08E7E6D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D99-936A-4CCF-A3A8-A7EBA26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292-6C2A-4C6E-B9BD-84EB674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E8D-4D3E-4800-8BE2-79FB2049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46080"/>
            <a:ext cx="91454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a2" descr=""/>
          <p:cNvPicPr/>
          <p:nvPr/>
        </p:nvPicPr>
        <p:blipFill>
          <a:blip r:embed="rId1"/>
          <a:stretch/>
        </p:blipFill>
        <p:spPr>
          <a:xfrm>
            <a:off x="179280" y="46080"/>
            <a:ext cx="9072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a3" descr=""/>
          <p:cNvPicPr/>
          <p:nvPr/>
        </p:nvPicPr>
        <p:blipFill>
          <a:blip r:embed="rId1"/>
          <a:stretch/>
        </p:blipFill>
        <p:spPr>
          <a:xfrm>
            <a:off x="36360" y="47520"/>
            <a:ext cx="9217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a4" descr=""/>
          <p:cNvPicPr/>
          <p:nvPr/>
        </p:nvPicPr>
        <p:blipFill>
          <a:blip r:embed="rId1"/>
          <a:stretch/>
        </p:blipFill>
        <p:spPr>
          <a:xfrm>
            <a:off x="38160" y="47520"/>
            <a:ext cx="9070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8:34:06Z</dcterms:created>
  <dc:creator>icb</dc:creator>
  <dc:description/>
  <cp:keywords/>
  <dc:language>en-US</dc:language>
  <cp:lastModifiedBy> </cp:lastModifiedBy>
  <cp:lastPrinted>1899-12-30T00:00:00Z</cp:lastPrinted>
  <dcterms:modified xsi:type="dcterms:W3CDTF">2007-12-28T00:43:47Z</dcterms:modified>
  <cp:revision>1</cp:revision>
  <dc:subject/>
  <dc:title>Slide 1</dc:title>
</cp:coreProperties>
</file>