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835-EA2F-41BE-8C57-743E1713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0C6-1315-4A04-99CD-78B02BF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E57-A795-472D-A039-49580C20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395-11E0-4E61-8F55-7D681FD2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3B5-8D19-4138-8505-F72F4C6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EC2-D87B-4384-AAE6-C7BD3BC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5BE-1056-4882-AB7E-EFD9F321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5C4-B597-491B-A3BA-1CB13D43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589-5CEA-444D-A51F-3FF255EA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250-494C-41AF-A20B-AFC0A58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9A0-42E4-4CC8-A77D-B95BE52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36D-CFA0-4EE4-9C20-5B54D40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DAF-AC92-4C04-B804-5970C0C5C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lid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30T08:28:43Z</dcterms:created>
  <dc:creator>IT-Alienware</dc:creator>
  <dc:description/>
  <dc:language>en-US</dc:language>
  <cp:lastModifiedBy>cloudconvert_9</cp:lastModifiedBy>
  <dcterms:modified xsi:type="dcterms:W3CDTF">2024-01-18T06:13:14Z</dcterms:modified>
  <cp:revision>1</cp:revision>
  <dc:subject/>
  <dc:title>PowerPoint Presentation</dc:title>
</cp:coreProperties>
</file>