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5B9-800B-44A4-B6C3-EDAB82A1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36D-2CD1-4F65-804E-59A9BCCB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229-2C75-4291-AF2D-1F51CB57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987-E959-4766-81EC-F858AE36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A55-C270-4A2D-8EBB-4115804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9E3-B814-48F9-8312-6B05A680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AA5-D02D-4984-B7BA-A2E4000F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7D4-1F1C-4F29-B9C8-E3824EB7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F5E-B08E-47C9-AA93-AB3F884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AA5-680A-4372-893F-4E896D3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330-7AF5-46C2-B64C-92A8462D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F20-0296-470A-B122-B7FBD0E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B699E-3782-4E9F-B9CD-15C542A3C1B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0:19:44Z</dcterms:created>
  <dc:creator>Ing Ming Loh</dc:creator>
  <dc:description/>
  <dc:language>en-US</dc:language>
  <cp:lastModifiedBy>Ing Ming Loh</cp:lastModifiedBy>
  <dcterms:modified xsi:type="dcterms:W3CDTF">2018-10-12T00:20:32Z</dcterms:modified>
  <cp:revision>1</cp:revision>
  <dc:subject/>
  <dc:title>PowerPoint Presentation</dc:title>
</cp:coreProperties>
</file>