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7B1-9D0C-413F-902F-53BCAF79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3DA-7F64-41EA-84B2-D413B5EC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6030-3017-4E6D-B0FA-6EF0F765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44B-097D-4E3D-A362-2EB93710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C14-3FAD-4D18-AAA5-E7E91EAC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FF1D-B4FF-43F3-86BD-AA9927B9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FF6-70A6-4C63-81A1-7E43BEFA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7007-87A6-4B25-881C-52BD862F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EFD-DF7E-44E1-BDE3-1BBB0031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84AF-A1D9-45AC-86BB-EA93EB7D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2D88-EA61-4CC8-87E0-538DD0CB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96A-D203-45D2-967A-320CD7F3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B0A98-3809-4E1A-9AA7-3A08BBB9CD6C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0:23:10Z</dcterms:created>
  <dc:creator>Ing Ming Loh</dc:creator>
  <dc:description/>
  <dc:language>en-US</dc:language>
  <cp:lastModifiedBy>Ing Ming Loh</cp:lastModifiedBy>
  <dcterms:modified xsi:type="dcterms:W3CDTF">2018-10-12T00:23:39Z</dcterms:modified>
  <cp:revision>1</cp:revision>
  <dc:subject/>
  <dc:title>PowerPoint Presentation</dc:title>
</cp:coreProperties>
</file>