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C68-CFF7-43EC-A60D-AC0D9208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168B-6EEB-41A4-817E-059064A2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E0CD-562B-47E7-A076-6D7F9025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749-A65D-446C-B33F-83D109B8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071A-4B84-493E-999A-27487964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273-DD22-469B-AF20-FF139F5E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577-7E49-4BE7-925C-FDFB114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27BB-B361-40A7-A11D-838F6E4F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197-DDD6-4935-9EC5-BC701DB6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D17-61B5-475C-8F89-F9F0306F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8998-BCE4-4AE9-817E-471EDA17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AEE-4952-466E-883E-FD1C349D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A93B-9A40-4322-9208-3C1EDC5BB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11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icture10"/>
          <p:cNvPicPr/>
          <p:nvPr/>
        </p:nvPicPr>
        <p:blipFill>
          <a:blip r:embed="rId1"/>
          <a:stretch/>
        </p:blipFill>
        <p:spPr>
          <a:xfrm>
            <a:off x="-42840" y="0"/>
            <a:ext cx="917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13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8:25:32Z</dcterms:created>
  <dc:creator>DEll</dc:creator>
  <dc:description/>
  <dc:language>en-US</dc:language>
  <cp:lastModifiedBy>tony</cp:lastModifiedBy>
  <dcterms:modified xsi:type="dcterms:W3CDTF">2019-06-25T07:25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