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8D7-FBC5-4FEE-8875-374059CC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AB0-D063-4062-AF7D-8F6F6DE2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6BD-AE21-4302-A9A1-86E27DD6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11A-3178-4A37-A94E-44ED2723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C20-A47F-4DB7-AF92-AEB1C597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EE1-093B-4CBA-8EC9-C0E133FA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F58-3247-4B3E-9611-CA0A47B5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AAF-CF3D-43C7-A9BE-337C2F77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7D8-6BAF-4D54-BD5C-E79FA60B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645-B8BB-4477-818E-C55E2136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239-D4A6-43FE-9616-EC0B0703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302-0B96-4735-861A-BB0DC692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0791-B2CD-4BC7-8195-5203F5FA4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15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16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17"/>
          <p:cNvPicPr/>
          <p:nvPr/>
        </p:nvPicPr>
        <p:blipFill>
          <a:blip r:embed="rId1"/>
          <a:stretch/>
        </p:blipFill>
        <p:spPr>
          <a:xfrm>
            <a:off x="22320" y="34920"/>
            <a:ext cx="91216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19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8:27:13Z</dcterms:created>
  <dc:creator>DEll</dc:creator>
  <dc:description/>
  <dc:language>en-US</dc:language>
  <cp:lastModifiedBy>DEll</cp:lastModifiedBy>
  <dcterms:modified xsi:type="dcterms:W3CDTF">2011-05-26T08:00:11Z</dcterms:modified>
  <cp:revision>1</cp:revision>
  <dc:subject/>
  <dc:title>PowerPoint Presentation</dc:title>
</cp:coreProperties>
</file>