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B90-60C9-425F-8DE4-1993C66E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C8D-F352-46E8-9F50-8E1AF8C3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920-8C77-4EFB-A668-87FE0D79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601-B568-4BA6-8327-C8CFE3B4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349-F622-429F-B97B-2D80ABFB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AF7-0FEA-4B85-99A8-6AD5C61B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830-76C6-4E80-AAB1-32EBB767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4B1-9CA1-4E57-A862-E827AF8B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43D-8E32-4AE5-96D6-1A79E8F6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564-3F6A-4EC2-8677-F2A41333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FC0-8381-407E-80A1-496C0B57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299-2B6B-422A-BD0F-9851654A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DCDB-1C28-4E09-BDD5-3BE97B8D7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00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005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00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008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009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0" y="22320"/>
            <a:ext cx="91425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s010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8:32:20Z</dcterms:created>
  <dc:creator>DEll</dc:creator>
  <dc:description/>
  <dc:language>en-US</dc:language>
  <cp:lastModifiedBy>DEll</cp:lastModifiedBy>
  <dcterms:modified xsi:type="dcterms:W3CDTF">2011-05-26T08:00:02Z</dcterms:modified>
  <cp:revision>1</cp:revision>
  <dc:subject/>
  <dc:title>PowerPoint Presentation</dc:title>
</cp:coreProperties>
</file>