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BC0-00BE-4563-8F0E-0696C9C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9BE-BF10-4605-9B25-736360DB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DFA-365D-471A-9CBB-63BA384B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E5A-ACBC-46DC-8B98-EBBC082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533-FB5B-40DA-964C-0406D62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89-D618-40DC-9F33-BFF5635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2FD-7899-4E1E-8DFB-68A49F7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E9B-26AB-48BE-BA45-35D0FBDD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260-4414-41F8-AE88-1166833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F88-0E4A-4E59-B8EE-9119A79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DB0-1399-4877-9320-DB1CD2B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5C7-FA11-4C64-80AA-53B12BC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B8CE9-5ED9-40C2-BB6A-7BCA662940F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0:59:55Z</dcterms:created>
  <dc:creator>Ing Ming Loh</dc:creator>
  <dc:description/>
  <dc:language>en-US</dc:language>
  <cp:lastModifiedBy>Ing Ming Loh</cp:lastModifiedBy>
  <dcterms:modified xsi:type="dcterms:W3CDTF">2018-10-12T01:01:09Z</dcterms:modified>
  <cp:revision>1</cp:revision>
  <dc:subject/>
  <dc:title>PowerPoint Presentation</dc:title>
</cp:coreProperties>
</file>