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0FA-5D6F-40B2-8D20-08FC67C7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BCD-108B-4571-B9D6-330EF69A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D81-1EDF-4A4D-8E6F-002765B9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163-475F-47F7-9CD6-B7B626BF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EDD-8B83-49DC-9934-98745B0F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DCA-FD68-494F-8259-BEEE9D39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36E-3371-47D6-9284-31447243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DB4-5499-4AAA-9378-2F91C7B6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9C0-7B64-47C6-B437-E06AA085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3CA-A998-48BE-919D-B14CC4C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918-A162-47F6-8347-6B70AE0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872-B662-4BFA-B79D-A86596A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2CE66-E042-4861-978E-444C165C7B64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1:04:02Z</dcterms:created>
  <dc:creator>Ing Ming Loh</dc:creator>
  <dc:description/>
  <dc:language>en-US</dc:language>
  <cp:lastModifiedBy>Ing Ming Loh</cp:lastModifiedBy>
  <dcterms:modified xsi:type="dcterms:W3CDTF">2018-10-12T01:06:31Z</dcterms:modified>
  <cp:revision>1</cp:revision>
  <dc:subject/>
  <dc:title>PowerPoint Presentation</dc:title>
</cp:coreProperties>
</file>