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D84A-87B8-44EE-AAD7-E731084B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5FD3-E74F-43EF-9571-1DC7470B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2046-FA0F-43C4-9385-D53787AD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88F1-14D9-4279-AF2E-AE468A93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D4FD-679D-45F5-A24F-7CD88D99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2F2-76C6-45ED-9B81-3BCDB805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F7B-6294-4FBB-A7E5-B5448E56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B38-A715-412F-989F-D84289BD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2B0-AE60-4F75-8970-64775126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08B8-9C45-4B87-89A0-619C904A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5EC-6DA3-4AC9-8EEC-7D72EC6D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812-0827-44B6-88D9-0997242C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6AB9B-74C9-4CEF-94D7-E4E458A3DB0F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2:09:41Z</dcterms:created>
  <dc:creator>Ing Ming Loh</dc:creator>
  <dc:description/>
  <dc:language>en-US</dc:language>
  <cp:lastModifiedBy>Ing Ming Loh</cp:lastModifiedBy>
  <dcterms:modified xsi:type="dcterms:W3CDTF">2018-10-12T02:11:47Z</dcterms:modified>
  <cp:revision>1</cp:revision>
  <dc:subject/>
  <dc:title>PowerPoint Presentation</dc:title>
</cp:coreProperties>
</file>