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022-190E-4118-8B35-DF0B1E2C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B58-345A-46D7-9599-36FA75E0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80E-6965-4DF2-978F-F72FB3B6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48B-7DCC-4D88-B686-2D556506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8B5-6A09-42E3-AF8C-1620F9B0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DF6-7CDA-4C30-9B23-B2602DCF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0D6-44DE-42CA-81A8-96CB20B6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BE6-6A65-461B-93C7-DF32BDF5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A13-7127-4883-859A-FA28622E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C64-D32F-4250-8E3C-F7A52532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B55-4344-4EF0-BD94-D219C077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8F6-AB8E-4844-A0DF-077DD75A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BA08F-7D24-4C6D-9D38-E76D23992344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2:13:36Z</dcterms:created>
  <dc:creator>Ing Ming Loh</dc:creator>
  <dc:description/>
  <dc:language>en-US</dc:language>
  <cp:lastModifiedBy>Ing Ming Loh</cp:lastModifiedBy>
  <dcterms:modified xsi:type="dcterms:W3CDTF">2018-10-12T02:14:00Z</dcterms:modified>
  <cp:revision>1</cp:revision>
  <dc:subject/>
  <dc:title>PowerPoint Presentation</dc:title>
</cp:coreProperties>
</file>