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60C2-994F-4A10-964D-630F21E2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B407-B333-40D0-85FC-EED801DF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DA90-9036-4F7D-BA78-6DCFFD1B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F226-B27B-4180-A61D-D3691E6F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1EB1-9F9D-41C8-B613-12A255A6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3544-B172-4F68-8426-23D98949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690-E0A4-411D-BB09-7E372237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09B2-8D40-49AD-82A8-4CCBD5F0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FA68-30DD-4320-9ACE-D37B5EA4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DF47-E2E5-463D-A6E6-95336F10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D09A-F3AF-4048-A60E-14B969B4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63FD-E349-4CBA-8DE7-98D5AC4E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C3297C-E65D-42F6-B86C-C0964BB4320C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02:15:20Z</dcterms:created>
  <dc:creator>Ing Ming Loh</dc:creator>
  <dc:description/>
  <dc:language>en-US</dc:language>
  <cp:lastModifiedBy>Ing Ming Loh</cp:lastModifiedBy>
  <dcterms:modified xsi:type="dcterms:W3CDTF">2018-10-12T02:15:53Z</dcterms:modified>
  <cp:revision>1</cp:revision>
  <dc:subject/>
  <dc:title>PowerPoint Presentation</dc:title>
</cp:coreProperties>
</file>