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466-BA6A-4DB0-9C78-83315679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7C2-F272-425F-B48E-42C87FB4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44E-209C-43FB-B96E-3E34FC5B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76A-77EB-4C56-9A1F-1B0452DE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E5F-38F2-4EBF-8E40-043F80CE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963-A7FE-4CCB-BEDE-DB23CD96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D95-27D4-4699-94BC-2957F1B9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28A5-3300-42CC-A1DD-FE7068F1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ABB-5646-4F67-8340-9B6B926F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C579-BD86-4B24-B135-AD5C3B7E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FED-5917-4488-A4C2-716D7303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248-A9B7-4E5E-859D-20421083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D9A7-7995-4502-93F5-EEDA26E73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a1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a2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a4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a5"/>
          <p:cNvPicPr/>
          <p:nvPr/>
        </p:nvPicPr>
        <p:blipFill>
          <a:blip r:embed="rId1"/>
          <a:stretch/>
        </p:blipFill>
        <p:spPr>
          <a:xfrm>
            <a:off x="25560" y="0"/>
            <a:ext cx="911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a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5:59:46Z</dcterms:created>
  <dc:creator>DEll</dc:creator>
  <dc:description/>
  <dc:language>en-US</dc:language>
  <cp:lastModifiedBy>DEll</cp:lastModifiedBy>
  <dcterms:modified xsi:type="dcterms:W3CDTF">2011-05-26T07:58:25Z</dcterms:modified>
  <cp:revision>1</cp:revision>
  <dc:subject/>
  <dc:title>PowerPoint Presentation</dc:title>
</cp:coreProperties>
</file>