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65D4C-DE52-43DC-8B59-47F39F01D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6FB38-AA65-450F-AA14-A4B1596D7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208ED-2C5D-4901-94F3-389EA6FF3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505B1-A8B9-4206-A033-707C50BAA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4E213-F30E-4753-85A1-3A5985A9D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7F106-0DA6-4424-AA32-D094F5E28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A2299-11C7-43F0-AE76-4E56B10AA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3D8C7-4ACD-41B2-8432-C68CDAEC5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BE2A9-CA6E-418D-A12C-E85E9F996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B7626-95DD-47BF-8766-C74B671FD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2A0A5-8DD3-4ED4-97A1-142CCE16D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95039-3EA1-4288-B04B-C01276E9E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41BEF-7C10-48EF-A344-D5AFC1335D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2" descr="b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b2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b3"/>
          <p:cNvPicPr/>
          <p:nvPr/>
        </p:nvPicPr>
        <p:blipFill>
          <a:blip r:embed="rId1"/>
          <a:stretch/>
        </p:blipFill>
        <p:spPr>
          <a:xfrm>
            <a:off x="-30240" y="4680"/>
            <a:ext cx="917424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3" descr="b4"/>
          <p:cNvPicPr/>
          <p:nvPr/>
        </p:nvPicPr>
        <p:blipFill>
          <a:blip r:embed="rId1"/>
          <a:stretch/>
        </p:blipFill>
        <p:spPr>
          <a:xfrm>
            <a:off x="15840" y="0"/>
            <a:ext cx="9128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5T06:01:38Z</dcterms:created>
  <dc:creator>DEll</dc:creator>
  <dc:description/>
  <dc:language>en-US</dc:language>
  <cp:lastModifiedBy>DEll</cp:lastModifiedBy>
  <dcterms:modified xsi:type="dcterms:W3CDTF">2011-05-26T07:58:11Z</dcterms:modified>
  <cp:revision>1</cp:revision>
  <dc:subject/>
  <dc:title>PowerPoint Presentation</dc:title>
</cp:coreProperties>
</file>