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0E8-95F9-40F9-919E-E698941B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633-D3E4-444B-8365-16F5A64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140-8596-4CCF-8886-A1447CA9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FDE-BE54-4D31-97A2-00556E10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A0C-A883-4AEB-BA33-FDBB1874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CEB-EE05-432F-A77B-081D088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CA-4F2C-4073-8570-311A0A6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566-233A-4C68-B543-0E764B6B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29B-2D82-40A2-AE52-8D3FE949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977-EDB6-4450-86A3-0017BAB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CF2-6841-4406-BEE3-03D218C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2F-D28E-4ECD-9B55-28746A2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A4705-0552-4DFC-8FAE-3BDC83A28FB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2:46:35Z</dcterms:created>
  <dc:creator>Ing Ming Loh</dc:creator>
  <dc:description/>
  <dc:language>en-US</dc:language>
  <cp:lastModifiedBy>Ing Ming Loh</cp:lastModifiedBy>
  <dcterms:modified xsi:type="dcterms:W3CDTF">2018-10-12T02:47:04Z</dcterms:modified>
  <cp:revision>1</cp:revision>
  <dc:subject/>
  <dc:title>PowerPoint Presentation</dc:title>
</cp:coreProperties>
</file>