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15E-25DD-4561-AB1F-128EEA8B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D56-5728-4252-B499-105E435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C11-0FD6-4540-AA9D-C6E6824A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2DE-927A-4370-8E74-A1CD04A4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D8-787B-4C5C-B648-95D8DE2C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CD4-8636-4617-9F3A-49B46DE0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82C-E6BA-4B32-AFB7-2B939409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6E8-0B93-4E9E-9CED-365E2597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D6B-02C3-4460-BE40-2605215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9B5-44A1-4FB7-85A7-02118DBB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244-4FDD-4A9B-96FF-E88BB49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5D6-EB85-481A-B98F-FE49E158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8331-DBDA-4AE2-8F45-A00A11BEB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D:\JPG pu song\pu song 336a.JPG"/>
          <p:cNvPicPr/>
          <p:nvPr/>
        </p:nvPicPr>
        <p:blipFill>
          <a:blip r:embed="rId1"/>
          <a:stretch/>
        </p:blipFill>
        <p:spPr>
          <a:xfrm>
            <a:off x="-42840" y="152280"/>
            <a:ext cx="91551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JPG pu song\pu song 336b.JPG"/>
          <p:cNvPicPr/>
          <p:nvPr/>
        </p:nvPicPr>
        <p:blipFill>
          <a:blip r:embed="rId1"/>
          <a:stretch/>
        </p:blipFill>
        <p:spPr>
          <a:xfrm>
            <a:off x="574560" y="457200"/>
            <a:ext cx="79948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JPG pu song\pu song 336c.JPG"/>
          <p:cNvPicPr/>
          <p:nvPr/>
        </p:nvPicPr>
        <p:blipFill>
          <a:blip r:embed="rId1"/>
          <a:stretch/>
        </p:blipFill>
        <p:spPr>
          <a:xfrm>
            <a:off x="676440" y="609480"/>
            <a:ext cx="7791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JPG pu song\pu song 336d.JPG"/>
          <p:cNvPicPr/>
          <p:nvPr/>
        </p:nvPicPr>
        <p:blipFill>
          <a:blip r:embed="rId1"/>
          <a:stretch/>
        </p:blipFill>
        <p:spPr>
          <a:xfrm>
            <a:off x="617400" y="533520"/>
            <a:ext cx="7909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JPG pu song\pu song 336e.JPG"/>
          <p:cNvPicPr/>
          <p:nvPr/>
        </p:nvPicPr>
        <p:blipFill>
          <a:blip r:embed="rId1"/>
          <a:stretch/>
        </p:blipFill>
        <p:spPr>
          <a:xfrm>
            <a:off x="628560" y="533520"/>
            <a:ext cx="788688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JPG pu song\pu song 336f.JPG"/>
          <p:cNvPicPr/>
          <p:nvPr/>
        </p:nvPicPr>
        <p:blipFill>
          <a:blip r:embed="rId1"/>
          <a:stretch/>
        </p:blipFill>
        <p:spPr>
          <a:xfrm>
            <a:off x="574560" y="457200"/>
            <a:ext cx="79948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7:33:49Z</dcterms:created>
  <dc:creator>celester</dc:creator>
  <dc:description/>
  <dc:language>en-US</dc:language>
  <cp:lastModifiedBy>Ing Ming Loh</cp:lastModifiedBy>
  <dcterms:modified xsi:type="dcterms:W3CDTF">2018-10-12T02:50:46Z</dcterms:modified>
  <cp:revision>1</cp:revision>
  <dc:subject/>
  <dc:title>PowerPoint Presentation</dc:title>
</cp:coreProperties>
</file>