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52C5-34C9-4D60-ACD3-F4BD7C93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E9E9-C7F7-4385-A21F-D32601525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881E-17BB-41F9-99AF-747C31195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D99E-E017-4E11-9262-193C7638D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4B0A-643C-4D70-97A3-840F92CCA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983C-32F1-485F-854D-4C6AE0A9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CE0F-E2A7-491C-B9E1-F93A32CD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BAEE6-D6AB-4774-A09F-7B59112B9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5B5E-3E21-403E-BFDC-7B2E4A98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0E4C-2BF0-49D2-ACD1-6238B145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02CA-B376-4607-88D5-06E98C9A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E7E9-7044-4CD6-8DE2-260EA52A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80FBC-CD49-4B3F-8033-2B3EA93E84DC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196920"/>
            <a:ext cx="9144000" cy="64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2T02:53:39Z</dcterms:created>
  <dc:creator>Ing Ming Loh</dc:creator>
  <dc:description/>
  <dc:language>en-US</dc:language>
  <cp:lastModifiedBy>Ing Ming Loh</cp:lastModifiedBy>
  <dcterms:modified xsi:type="dcterms:W3CDTF">2018-10-12T02:54:22Z</dcterms:modified>
  <cp:revision>1</cp:revision>
  <dc:subject/>
  <dc:title>PowerPoint Presentation</dc:title>
</cp:coreProperties>
</file>