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30A-2DD7-4764-AAAC-7EFC90D0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9DB-09F6-4BF0-877A-4BBBEACE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330-57FB-49F2-BC57-D3A052ED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E2B-7B5E-47E7-BA5A-DA5A8EE8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7DB-0DE5-42E8-BF8F-3AEC2CE7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A25-5EDB-4997-8371-4F527E1B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4EF-A2C4-4D4D-8CC3-5A64876B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E04-52AA-45F3-97E4-F56AFCFE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E52-D266-4898-8BC6-82469C59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21E7-EFF5-4F8B-8A6B-A5684F35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219-3DEB-411A-979B-FF64DAF8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313-06D6-49E7-8C4A-44206127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B9135-1F48-41F0-B1F7-15D9A15A8C2A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Picture12"/>
          <p:cNvPicPr/>
          <p:nvPr/>
        </p:nvPicPr>
        <p:blipFill>
          <a:blip r:embed="rId1"/>
          <a:stretch/>
        </p:blipFill>
        <p:spPr>
          <a:xfrm>
            <a:off x="-9360" y="7920"/>
            <a:ext cx="91342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3:05:45Z</dcterms:created>
  <dc:creator>Ing Ming Loh</dc:creator>
  <dc:description/>
  <dc:language>en-US</dc:language>
  <cp:lastModifiedBy>tony</cp:lastModifiedBy>
  <dcterms:modified xsi:type="dcterms:W3CDTF">2019-06-25T07:38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