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F61-AF05-41C2-A4DC-DCA27A95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530-5BF4-4430-82D4-1E68367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8BD-3022-43F5-994F-0837B63E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33F-7353-41E6-99CC-1E28C503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639-D58A-4FAA-AF7A-37374A41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F74-D42A-4A95-AAAC-08ABF75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56F-0517-4234-B3EE-2FF7655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1F2-F7E0-4210-BA7E-D151BD6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A89-E65B-42CD-8DB3-6EAAB92A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49E-E45F-4AF6-9CF0-2A8D93A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77D-D38B-4BAB-AE8A-86687BB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1AA-4BD0-4466-96A1-69D0DED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08714-71AA-406F-8822-A260BDB2531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3:08:02Z</dcterms:created>
  <dc:creator>Ing Ming Loh</dc:creator>
  <dc:description/>
  <dc:language>en-US</dc:language>
  <cp:lastModifiedBy>Ing Ming Loh</cp:lastModifiedBy>
  <dcterms:modified xsi:type="dcterms:W3CDTF">2018-10-12T03:08:35Z</dcterms:modified>
  <cp:revision>1</cp:revision>
  <dc:subject/>
  <dc:title>PowerPoint Presentation</dc:title>
</cp:coreProperties>
</file>