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332-B18D-4DDC-A793-EEFF56F6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53A-1761-42D7-9B57-B92C6CDF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668-4F40-473B-81D3-37F1EB06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E9E-42FF-47AC-AA0A-A6D41D38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C19-6375-4F4C-BB85-ADB1FA07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289-2391-4F9A-971C-4AA5DABE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784-9F85-4941-8730-2E2C186A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6BF-C7B7-4884-82EE-82AF71C8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35C-3D43-45AC-8ED8-7F34FF28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432-1A4E-41E9-A8C5-ECFA7135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8D2-34CE-4130-B594-D2D8E4BC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AFE-B226-4C26-BBD2-C9A5F05A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676D-175D-47D2-BD98-A2B943CD2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f4"/>
          <p:cNvPicPr/>
          <p:nvPr/>
        </p:nvPicPr>
        <p:blipFill>
          <a:blip r:embed="rId1"/>
          <a:stretch/>
        </p:blipFill>
        <p:spPr>
          <a:xfrm>
            <a:off x="2556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6"/>
          <p:cNvPicPr/>
          <p:nvPr/>
        </p:nvPicPr>
        <p:blipFill>
          <a:blip r:embed="rId1"/>
          <a:stretch/>
        </p:blipFill>
        <p:spPr>
          <a:xfrm>
            <a:off x="9360" y="-284040"/>
            <a:ext cx="9144000" cy="71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7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6:06:07Z</dcterms:created>
  <dc:creator>DEll</dc:creator>
  <dc:description/>
  <dc:language>en-US</dc:language>
  <cp:lastModifiedBy>DEll</cp:lastModifiedBy>
  <dcterms:modified xsi:type="dcterms:W3CDTF">2011-05-26T07:57:53Z</dcterms:modified>
  <cp:revision>1</cp:revision>
  <dc:subject/>
  <dc:title>PowerPoint Presentation</dc:title>
</cp:coreProperties>
</file>