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D1B-563C-4F1E-A98B-6DA8545C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5437-5351-4AA8-A429-B81E3584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EB6-2C67-42B6-8415-7FE105A7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7DA-64DD-4DBE-ACC8-8DAA31F6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1E5D-5971-4362-A5A1-2850058B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701-69DC-4F96-B80E-2765D139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2EF0-7E36-4586-82E1-3F338818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439-C6C3-4079-B978-EB9D0A61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A4D6-04A1-4B0A-942E-EEE08DA5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F53-D1A2-49EB-96F4-CEE4CC59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40E-7FE1-482B-A1AB-892A24E4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520-80C2-4B84-9EC8-7E295678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72AD-A014-4787-A37B-79CBCB896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e1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e2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3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6:07:44Z</dcterms:created>
  <dc:creator>DEll</dc:creator>
  <dc:description/>
  <dc:language>en-US</dc:language>
  <cp:lastModifiedBy>DEll</cp:lastModifiedBy>
  <dcterms:modified xsi:type="dcterms:W3CDTF">2011-05-26T07:57:31Z</dcterms:modified>
  <cp:revision>2</cp:revision>
  <dc:subject/>
  <dc:title>PowerPoint Presentation</dc:title>
</cp:coreProperties>
</file>