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4487-EF8E-4426-BC02-4E3FF7E66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9102-4EE8-452B-AE73-AF9AE244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4636-83CD-4CAC-9D02-C8701D0AD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A1BD-2F5D-47FE-9336-7B91DA6C6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3465-C986-4D65-9EB7-1FC3BD4B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A307-BFC7-4519-9EE7-20A6A410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5D7B-8E55-48AD-B409-53581C18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65B1-C6E8-4B09-94B8-EF48BC78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4973-2C54-431C-B21E-612E2892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BC73-496E-4BF8-BD32-58326ED4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D594-E45E-4536-95EE-9887D9C4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634A-2727-4111-A399-5B6FCF3F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2CA9-4223-4415-93EB-902A4B7FFD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d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2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3"/>
          <p:cNvPicPr/>
          <p:nvPr/>
        </p:nvPicPr>
        <p:blipFill>
          <a:blip r:embed="rId1"/>
          <a:stretch/>
        </p:blipFill>
        <p:spPr>
          <a:xfrm>
            <a:off x="25560" y="-15840"/>
            <a:ext cx="911844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4"/>
          <p:cNvPicPr/>
          <p:nvPr/>
        </p:nvPicPr>
        <p:blipFill>
          <a:blip r:embed="rId1"/>
          <a:stretch/>
        </p:blipFill>
        <p:spPr>
          <a:xfrm>
            <a:off x="30240" y="0"/>
            <a:ext cx="9113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06:30:10Z</dcterms:created>
  <dc:creator>DEll</dc:creator>
  <dc:description/>
  <dc:language>en-US</dc:language>
  <cp:lastModifiedBy>DEll</cp:lastModifiedBy>
  <dcterms:modified xsi:type="dcterms:W3CDTF">2011-05-26T07:57:16Z</dcterms:modified>
  <cp:revision>1</cp:revision>
  <dc:subject/>
  <dc:title>PowerPoint Presentation</dc:title>
</cp:coreProperties>
</file>