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7BA1-C9E1-4E7C-8BAF-4CD459F7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5E3A-5715-4A74-B764-0C084312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F9B3-6223-4CB5-984A-C92B6A7F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9CDA-FEAF-498A-8DEF-C1CA9BEB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73D1-CFD0-4ABA-BDB5-CFAEBD46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8A9A-59E7-41E4-A29F-3012F66A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49C4-7487-440D-9DD0-17117768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96AB-D33A-4D72-8C05-9D143238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A707-E705-47C5-8E18-109C152F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14B0-AF12-4BA7-8C80-E47527F0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BC12-62AD-4EC7-B5D8-100C69FF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473C-34CB-40AA-AF0C-0A111FC5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A7A389-8F71-4577-8415-0B8EB978BA2B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03:37:15Z</dcterms:created>
  <dc:creator>Ing Ming Loh</dc:creator>
  <dc:description/>
  <dc:language>en-US</dc:language>
  <cp:lastModifiedBy>Ing Ming Loh</cp:lastModifiedBy>
  <dcterms:modified xsi:type="dcterms:W3CDTF">2018-10-12T03:37:41Z</dcterms:modified>
  <cp:revision>1</cp:revision>
  <dc:subject/>
  <dc:title>PowerPoint Presentation</dc:title>
</cp:coreProperties>
</file>