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1AE-2825-422D-B06E-E7404241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B31-7E0D-4A64-A260-DA3FA420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158-291B-4936-A556-A7FBFBE9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00C-3C99-48B9-B559-9788D252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4CC-234A-4E2C-B46C-A97BAE19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67A-5AD0-4B4E-BE22-BDF27687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214-84B1-4398-BA53-90F97999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AD1-25CC-4DEE-95E2-1160B178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B43-6DB7-46DC-9807-6E1249E1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AE4-183A-4522-A645-FDECFE91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AF6-D4BE-4C1A-BB5E-8AA757B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8E7-FA24-42DA-9CCF-F369B704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8A785-C46E-4D16-A5B6-7377921F452D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3:39:16Z</dcterms:created>
  <dc:creator>Ing Ming Loh</dc:creator>
  <dc:description/>
  <dc:language>en-US</dc:language>
  <cp:lastModifiedBy>Ing Ming Loh</cp:lastModifiedBy>
  <dcterms:modified xsi:type="dcterms:W3CDTF">2018-10-12T03:39:46Z</dcterms:modified>
  <cp:revision>1</cp:revision>
  <dc:subject/>
  <dc:title>PowerPoint Presentation</dc:title>
</cp:coreProperties>
</file>