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963-35F5-4533-AF20-DACCE666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C4A-4785-4075-8321-96A5849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AAD-01B9-4584-AC04-1ADE2D4A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B70-AF1C-4AAC-9B97-779EF064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A21-0EBE-48A6-8AA9-33D8E81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5FB-5957-4B30-9BF8-116C7A7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6DF-D098-4971-A048-D1F52C3D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6D0-0F05-4860-A590-D8D37BC7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FC9-93C5-458B-9820-54DAA0A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007-D8BC-4314-812E-D651621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1B6-B413-4DC3-8743-F3EA60E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6A0-EE7F-4693-B56D-D80764B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EBD-369C-4585-9D6B-2AE17813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3"/>
          <p:cNvPicPr/>
          <p:nvPr/>
        </p:nvPicPr>
        <p:blipFill>
          <a:blip r:embed="rId1"/>
          <a:stretch/>
        </p:blipFill>
        <p:spPr>
          <a:xfrm>
            <a:off x="25560" y="0"/>
            <a:ext cx="9118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37:18Z</dcterms:created>
  <dc:creator>DEll</dc:creator>
  <dc:description/>
  <dc:language>en-US</dc:language>
  <cp:lastModifiedBy>DEll</cp:lastModifiedBy>
  <dcterms:modified xsi:type="dcterms:W3CDTF">2011-05-26T07:56:36Z</dcterms:modified>
  <cp:revision>1</cp:revision>
  <dc:subject/>
  <dc:title>PowerPoint Presentation</dc:title>
</cp:coreProperties>
</file>