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67F5-6A62-4E31-9D7D-9E5A5F044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C0D0-5C67-446D-BAAF-2A868FB1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93DA-A65C-41ED-ADCE-19D7A5989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B946-0A09-4360-94CA-772BE815E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56E2-510E-4FEB-A7BD-C93C9B00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84B2-B5E0-4234-9A20-CD802DB2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3C28-2D8E-4332-9A7C-EEF418C0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E6BC-9AA5-4AE0-9E04-3EB13675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6122-1315-4DD4-B067-854B7771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6F2A-9993-4166-AC41-1E2DD689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9DCE-50E6-4472-9EA8-DD2B8F52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1547-2D3D-41F3-B057-766B6896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E064D2-B49D-4FEA-BA9B-EFCD932E3F69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2T03:59:12Z</dcterms:created>
  <dc:creator>Ing Ming Loh</dc:creator>
  <dc:description/>
  <dc:language>en-US</dc:language>
  <cp:lastModifiedBy>Ing Ming Loh</cp:lastModifiedBy>
  <dcterms:modified xsi:type="dcterms:W3CDTF">2018-10-12T03:59:37Z</dcterms:modified>
  <cp:revision>1</cp:revision>
  <dc:subject/>
  <dc:title>PowerPoint Presentation</dc:title>
</cp:coreProperties>
</file>