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7BC-6245-4C1F-A282-4ADEEC31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776-B551-4AC1-B903-7E7580E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050-BF27-4A76-A917-68D719AB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3A5-4827-45D8-AE5B-BAD5AACF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7F5-F039-4C31-977E-1AF64CD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0E5-F492-46CB-BBF0-48C13F77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952-2526-424A-9828-91967013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304-6722-4C50-9F14-1F345E7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A6D-5FEC-480B-9263-808EA08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36A-E9BB-4286-B557-6940B15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456-8944-4275-9C8F-4A77F9D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5F1-DCF7-4F11-AA36-373FF23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4266F-E534-4297-BE43-735AB726EA60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08:45Z</dcterms:created>
  <dc:creator>Ing Ming Loh</dc:creator>
  <dc:description/>
  <dc:language>en-US</dc:language>
  <cp:lastModifiedBy>Ing Ming Loh</cp:lastModifiedBy>
  <dcterms:modified xsi:type="dcterms:W3CDTF">2018-10-12T06:09:28Z</dcterms:modified>
  <cp:revision>1</cp:revision>
  <dc:subject/>
  <dc:title>PowerPoint Presentation</dc:title>
</cp:coreProperties>
</file>