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D1B-F74A-4029-B039-699444ED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3F7-37DC-4C05-A094-F4A277D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729-5563-40B5-82EE-36699EF0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C4C-3C06-4339-90EF-3E9B324C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C0B-C8AA-458C-AB28-F23591B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8F8-80C2-4397-8E99-FA921A24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C58-6B9B-4BCE-BDE0-F2AC9D05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8F8-F034-4509-8231-5E72797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0CC-3FB7-4D65-9FFA-F38F6509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25C-5125-45C7-AEDF-F695C1A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0F5-FDCD-4C64-ADF6-1638AEA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FE6-C718-4B1E-B9C5-5F02BBE5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3B5D7-FE52-4D6D-8865-7A31263CF04E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13:16Z</dcterms:created>
  <dc:creator>Ing Ming Loh</dc:creator>
  <dc:description/>
  <dc:language>en-US</dc:language>
  <cp:lastModifiedBy>Ing Ming Loh</cp:lastModifiedBy>
  <dcterms:modified xsi:type="dcterms:W3CDTF">2018-10-12T06:13:39Z</dcterms:modified>
  <cp:revision>1</cp:revision>
  <dc:subject/>
  <dc:title>PowerPoint Presentation</dc:title>
</cp:coreProperties>
</file>