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9B8-1BE2-4CB7-AE88-B3AF839E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76F-6AA6-4D9D-B9D3-FA3129B6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C6F-A983-4154-A524-056F345E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5F5-A04F-46A6-98E3-E244DE8A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7B3-11DA-40C3-B0F9-50B69D42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39F-CAEC-444D-9A39-13C5547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21E-AAFA-482B-A8B1-260D7B16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DE8-9E9E-482A-B890-5E7D5DDB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DF0-0557-49E7-ADD5-866F51B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E20-A982-49B9-9E82-317D8CD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BBA-AA75-4356-B933-0394F418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B9B-CA0F-40DD-9CC6-9B2047C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1368B-000D-4AD9-AAF3-4820702D1EFE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16:42Z</dcterms:created>
  <dc:creator>Ing Ming Loh</dc:creator>
  <dc:description/>
  <dc:language>en-US</dc:language>
  <cp:lastModifiedBy>Ing Ming Loh</cp:lastModifiedBy>
  <dcterms:modified xsi:type="dcterms:W3CDTF">2018-10-12T06:17:18Z</dcterms:modified>
  <cp:revision>1</cp:revision>
  <dc:subject/>
  <dc:title>PowerPoint Presentation</dc:title>
</cp:coreProperties>
</file>