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A382-1400-4E25-B057-9DA47F97C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9953-48A1-44B6-B6F9-4AD5EDF3E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CE2C-782A-4DA4-8A74-FF0A402EF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088A-E7F6-4C61-B144-E228A01DE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CE8C-736F-45D4-A7AD-CB43AD32B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330B-5358-4940-93CF-EB489DC0B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674A-F257-4EE3-9CFB-C442E3853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D67D-CB2A-492E-981B-7E93BE197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2709-A9AC-4957-BD4D-7B81525A9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A740-4856-43DE-841F-C5DC920BB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AFFB-EE9F-4744-BBFC-5A806F6C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8213-E5DE-46BF-A672-59075F062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297929-31E4-4331-8DA5-1C4F38D304FC}" type="slidenum">
              <a:rPr b="0" lang="en-MY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2T06:18:44Z</dcterms:created>
  <dc:creator>Ing Ming Loh</dc:creator>
  <dc:description/>
  <dc:language>en-US</dc:language>
  <cp:lastModifiedBy>Ing Ming Loh</cp:lastModifiedBy>
  <dcterms:modified xsi:type="dcterms:W3CDTF">2018-10-12T06:19:19Z</dcterms:modified>
  <cp:revision>1</cp:revision>
  <dc:subject/>
  <dc:title>PowerPoint Presentation</dc:title>
</cp:coreProperties>
</file>