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7FC-7BCD-48B7-A7CB-71FC8110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D53-5B99-4E33-98BE-8A2FA9EC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ED5-5066-4CD8-BF95-9EE84887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CBB-B46E-42E1-9969-8D353D83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4C5-A20D-4FBD-B251-D934FF3E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B74-3728-4AAB-BF7F-3A0C9D82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4C7-3267-493D-839D-9403A016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169-4B88-4BFF-9A39-B5F6BF4C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B43-CB9E-4824-8E6A-EE78CD64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B0B-955A-40E2-8D78-33545D3B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C3E-807F-430D-9784-6D98E446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064-637B-4A97-877A-53C077D8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B1EA-5F75-46DB-BB33-438B99BF2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3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48:43Z</dcterms:created>
  <dc:creator>DEll</dc:creator>
  <dc:description/>
  <dc:language>en-US</dc:language>
  <cp:lastModifiedBy>DEll</cp:lastModifiedBy>
  <dcterms:modified xsi:type="dcterms:W3CDTF">2011-05-26T07:55:45Z</dcterms:modified>
  <cp:revision>1</cp:revision>
  <dc:subject/>
  <dc:title>PowerPoint Presentation</dc:title>
</cp:coreProperties>
</file>