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4AFA-2672-4919-9FB5-E4EEAD09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272-C7B9-41C5-B890-8196D4ED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40E-A0E3-485D-B522-930788D9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3948-BF3B-4B06-AA28-4907F6A2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3794-7A2E-471B-8155-D2E52322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D984-6AA9-4F94-9D0B-B6291639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DB5B-FF78-4D3E-805F-BD8E3F56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A60F-85EA-4D65-9109-C643DA44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2A10-ABBB-4EB8-8B00-AB30F831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4493-EA5F-41C1-ADD3-7BFCC7F9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5197-FA50-44D8-A6E6-25CF59B4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3F7-4318-4C39-B8D7-CEDA9DFD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35603-FC89-415A-8882-7F283B7516D6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6:22:24Z</dcterms:created>
  <dc:creator>Ing Ming Loh</dc:creator>
  <dc:description/>
  <dc:language>en-US</dc:language>
  <cp:lastModifiedBy>Ing Ming Loh</cp:lastModifiedBy>
  <dcterms:modified xsi:type="dcterms:W3CDTF">2018-10-12T06:23:04Z</dcterms:modified>
  <cp:revision>1</cp:revision>
  <dc:subject/>
  <dc:title>PowerPoint Presentation</dc:title>
</cp:coreProperties>
</file>