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A18-ADD3-4B41-88FA-3B83D094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70A-6FB3-4555-A9A9-2F540619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4F3-47BE-4267-A15D-FC63DCB5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DC2-998D-4EE3-B9F6-18477B94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6C0-ED29-486F-A956-6C69BB66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1D7-7861-47A2-B0FD-41652DF9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38A-BED3-43D6-B8FD-05756115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91D-F039-44F3-BDDA-FDDF7008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228-540C-4C01-9D3A-61E496D4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81B-3038-44C6-BB4E-80A0B9E3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838-478F-4E3F-B8BB-503E71D1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F40-8B5D-4390-8070-B5D965D4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B75CA-A499-477C-87CD-0F167A8F0CB0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6:37:56Z</dcterms:created>
  <dc:creator>Ing Ming Loh</dc:creator>
  <dc:description/>
  <dc:language>en-US</dc:language>
  <cp:lastModifiedBy>Ing Ming Loh</cp:lastModifiedBy>
  <dcterms:modified xsi:type="dcterms:W3CDTF">2018-10-12T06:38:50Z</dcterms:modified>
  <cp:revision>1</cp:revision>
  <dc:subject/>
  <dc:title>PowerPoint Presentation</dc:title>
</cp:coreProperties>
</file>