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448D-D975-44FA-8606-706F6AA61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CBC8-5A6F-4A67-9918-DF2DD7B38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A22C-93E6-4C8F-860C-728CC3EED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08E1-1491-48A7-8A0F-F1A086DA6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9F8D-5286-4F9E-8E91-7F38A2130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E6FB-4DBC-4D37-9551-C19C1911D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6DBA-2E74-486A-AE90-A87F5B903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6006-CDE8-417F-86A2-73040FD59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F864-1836-4692-85CA-6B7AF45E6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23F7-30C9-43C2-8590-EC181283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D89C-EFE7-4516-82C2-6BE7DF331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B396-E688-4BCC-8346-AD950AAE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3DF4C-AE69-4E2D-ACE2-1E2B49C9126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黑体"/>
                <a:ea typeface="黑体"/>
              </a:rPr>
              <a:t>普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367</a:t>
            </a:r>
            <a:r>
              <a:rPr b="0" lang="zh-TW" sz="3200" spc="-1" strike="noStrike">
                <a:solidFill>
                  <a:srgbClr val="000000"/>
                </a:solidFill>
                <a:latin typeface="黑体"/>
                <a:ea typeface="黑体"/>
              </a:rPr>
              <a:t>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90920" y="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黑体"/>
                <a:ea typeface="黑体"/>
              </a:rPr>
              <a:t>頌主之心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121932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|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2  |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1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2  |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82880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願 我常有頌 </a:t>
            </a:r>
            <a:r>
              <a:rPr b="0" lang="zh-TW" sz="1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主</a:t>
            </a:r>
            <a:r>
              <a:rPr b="0" lang="zh-TW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之心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49528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主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寶血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為  我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白白傾   流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381880" y="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/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43434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5  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|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3  2  | 1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144792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00760" y="29718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05120" y="144792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7432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4  3 | 3  2  4 |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3  6 |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335268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心離</a:t>
            </a:r>
            <a:r>
              <a:rPr b="0" lang="zh-TW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罪自</a:t>
            </a:r>
            <a:r>
              <a:rPr b="0" lang="zh-TW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由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此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心 常念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76000" y="2666880"/>
            <a:ext cx="53064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8" y="9894"/>
                </a:moveTo>
                <a:arcTo wR="10800" hR="10800" stAng="-10511305" swAng="10511305"/>
                <a:lnTo>
                  <a:pt x="10800" y="10800"/>
                </a:lnTo>
                <a:close/>
              </a:path>
              <a:path fill="none" w="21600" h="21600">
                <a:moveTo>
                  <a:pt x="38" y="9894"/>
                </a:moveTo>
                <a:arcTo wR="10800" hR="10800" stAng="-10511305" swAng="10511305"/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81240" y="18003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9720" y="1795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53200" y="3324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52680" y="49388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219320" y="46054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68580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|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2  |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1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2  |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129528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願 有溫和順 </a:t>
            </a:r>
            <a:r>
              <a:rPr b="0" lang="zh-TW" sz="1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服</a:t>
            </a:r>
            <a:r>
              <a:rPr b="0" lang="zh-TW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之心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537840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督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聲音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惟  有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主為主   宰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381880" y="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/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47689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5  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|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3  2  | 1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038480" y="91440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133960" y="28638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05120" y="914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26352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4  3 | 3  2  4 |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3  6 |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324468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我恩</a:t>
            </a:r>
            <a:r>
              <a:rPr b="0" lang="zh-TW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主寶</a:t>
            </a:r>
            <a:r>
              <a:rPr b="0" lang="zh-TW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位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在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此 惟聞 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76000" y="2590920"/>
            <a:ext cx="5306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8" y="9894"/>
                </a:moveTo>
                <a:arcTo wR="10800" hR="10800" stAng="-10511305" swAng="10511305"/>
                <a:lnTo>
                  <a:pt x="10800" y="10800"/>
                </a:lnTo>
                <a:close/>
              </a:path>
              <a:path fill="none" w="21600" h="21600">
                <a:moveTo>
                  <a:pt x="38" y="9894"/>
                </a:moveTo>
                <a:arcTo wR="10800" hR="10800" stAng="-10511305" swAng="10511305"/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81240" y="12668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419720" y="12621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86400" y="3216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52680" y="5364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19320" y="503064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85800" y="68580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|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2  |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1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2  |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29528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願 有謙卑懊 </a:t>
            </a:r>
            <a:r>
              <a:rPr b="0" lang="zh-TW" sz="1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悔</a:t>
            </a:r>
            <a:r>
              <a:rPr b="0" lang="zh-TW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之心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537840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論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生存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決  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與主離   別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381880" y="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47689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5  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|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3  2  | 1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038480" y="91440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257800" y="28638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05120" y="914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26352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4   3 | 3 2  4 |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3  6 |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38080" y="324468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信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真</a:t>
            </a:r>
            <a:r>
              <a:rPr b="0" lang="zh-TW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誠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清潔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無 論死亡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83800" y="2590920"/>
            <a:ext cx="5306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8" y="9894"/>
                </a:moveTo>
                <a:arcTo wR="10800" hR="10800" stAng="-10511305" swAng="10511305"/>
                <a:lnTo>
                  <a:pt x="10800" y="10800"/>
                </a:lnTo>
                <a:close/>
              </a:path>
              <a:path fill="none" w="21600" h="21600">
                <a:moveTo>
                  <a:pt x="38" y="9894"/>
                </a:moveTo>
                <a:arcTo wR="10800" hR="10800" stAng="-10511305" swAng="10511305"/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181240" y="12668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12621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610240" y="3216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52680" y="5364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219320" y="503064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68580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|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2  |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1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2  |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129528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願 將我心舊 </a:t>
            </a:r>
            <a:r>
              <a:rPr b="0" lang="zh-TW" sz="1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態</a:t>
            </a:r>
            <a:r>
              <a:rPr b="0" lang="zh-TW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改變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537840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潔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純善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能  與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主心相   同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381880" y="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/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47689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5  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|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3  2  | 1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38480" y="91440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133960" y="28638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5120" y="914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26352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4  3 | 3  2  4 |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3   6 |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324468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作我</a:t>
            </a:r>
            <a:r>
              <a:rPr b="0" lang="zh-TW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主形</a:t>
            </a:r>
            <a:r>
              <a:rPr b="0" lang="zh-TW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容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念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念 更新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, 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6000" y="2590920"/>
            <a:ext cx="5306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8" y="9894"/>
                </a:moveTo>
                <a:arcTo wR="10800" hR="10800" stAng="-10511305" swAng="10511305"/>
                <a:lnTo>
                  <a:pt x="10800" y="10800"/>
                </a:lnTo>
                <a:close/>
              </a:path>
              <a:path fill="none" w="21600" h="21600">
                <a:moveTo>
                  <a:pt x="38" y="9894"/>
                </a:moveTo>
                <a:arcTo wR="10800" hR="10800" stAng="-10511305" swAng="10511305"/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81240" y="12668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19720" y="12621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486400" y="3216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52680" y="5364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219320" y="503064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68580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|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2  |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1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2  |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129528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懇 求恩主將 </a:t>
            </a:r>
            <a:r>
              <a:rPr b="0" lang="zh-TW" sz="1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主</a:t>
            </a:r>
            <a:r>
              <a:rPr b="0" lang="zh-TW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的性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537840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主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聖名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仁  愛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簇新之   名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381880" y="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/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47689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5  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|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3  2  | 1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038480" y="91440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133960" y="28638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905120" y="914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26352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4  3 | 3  2  4 |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3   6 |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324468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天賜</a:t>
            </a:r>
            <a:r>
              <a:rPr b="0" lang="zh-TW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給我</a:t>
            </a:r>
            <a:r>
              <a:rPr b="0" lang="zh-TW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心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在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我 心中  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76000" y="2590920"/>
            <a:ext cx="5306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8" y="9894"/>
                </a:moveTo>
                <a:arcTo wR="10800" hR="10800" stAng="-10511305" swAng="10511305"/>
                <a:lnTo>
                  <a:pt x="10800" y="10800"/>
                </a:lnTo>
                <a:close/>
              </a:path>
              <a:path fill="none" w="21600" h="21600">
                <a:moveTo>
                  <a:pt x="38" y="9894"/>
                </a:moveTo>
                <a:arcTo wR="10800" hR="10800" stAng="-10511305" swAng="10511305"/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81240" y="12668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419720" y="12621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86400" y="3216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52680" y="5364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219320" y="503064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06:59:28Z</dcterms:created>
  <dc:creator>sat</dc:creator>
  <dc:description/>
  <dc:language>en-US</dc:language>
  <cp:lastModifiedBy>sat</cp:lastModifiedBy>
  <dcterms:modified xsi:type="dcterms:W3CDTF">2010-01-15T07:01:47Z</dcterms:modified>
  <cp:revision>1</cp:revision>
  <dc:subject/>
  <dc:title>Slide 1</dc:title>
</cp:coreProperties>
</file>