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A845-4645-4ED6-83A8-ACA5AEFDB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1601-6E4F-40FB-A4D8-ACEE80DAA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4D0E-0075-4B08-BBEF-8545D9285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E257-F541-4E4E-BA09-81C30BC21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4895-8C87-4BBF-9819-E9454E1AB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3C5F-E0D0-4763-A80B-1B466E8BF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BC01-56F1-45C7-B6A8-4223E35C3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0904-25C7-4BFC-B890-256DFA9E2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AD2B-44F5-427A-AF47-EE43E8A7A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B29E-60EE-46B5-AE61-A12A9EA7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4884-1CC2-4A53-8AEB-782CBAFF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7EFB-3ABF-424B-802D-28BF3524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06AE8-9D38-4294-BAB0-8A80618C02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b4"/>
          <p:cNvPicPr/>
          <p:nvPr/>
        </p:nvPicPr>
        <p:blipFill>
          <a:blip r:embed="rId1"/>
          <a:stretch/>
        </p:blipFill>
        <p:spPr>
          <a:xfrm>
            <a:off x="25560" y="-15840"/>
            <a:ext cx="911844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b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b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b7"/>
          <p:cNvPicPr/>
          <p:nvPr/>
        </p:nvPicPr>
        <p:blipFill>
          <a:blip r:embed="rId1"/>
          <a:stretch/>
        </p:blipFill>
        <p:spPr>
          <a:xfrm>
            <a:off x="-9360" y="0"/>
            <a:ext cx="915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06:58:24Z</dcterms:created>
  <dc:creator>DEll</dc:creator>
  <dc:description/>
  <dc:language>en-US</dc:language>
  <cp:lastModifiedBy>DEll</cp:lastModifiedBy>
  <dcterms:modified xsi:type="dcterms:W3CDTF">2011-05-26T07:55:02Z</dcterms:modified>
  <cp:revision>1</cp:revision>
  <dc:subject/>
  <dc:title>PowerPoint Presentation</dc:title>
</cp:coreProperties>
</file>