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996-5AB4-4C74-875D-4AB4445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EB4-332E-443F-A223-2CEB7B7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561-89AA-4210-B5FA-C9A00CF0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E60-51A7-471E-AD08-14C6CBF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FD8-FF70-4064-BE83-733716A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2FB-AC7D-461A-BEB6-DE6F691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882-BB57-4C9A-AFC3-90D6E9B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F07-6DD1-4513-A0B8-831E365A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717-032F-444B-ACA6-2B6CE75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EA9-5B4C-4624-84BA-85C640C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2AD-C761-4012-B7F6-BA55CDB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A25-2BDE-4A6D-BB26-B87E096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D38-81C5-46EA-9F4A-0E1DD1BA3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4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5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6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8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9"/>
          <p:cNvPicPr/>
          <p:nvPr/>
        </p:nvPicPr>
        <p:blipFill>
          <a:blip r:embed="rId1"/>
          <a:stretch/>
        </p:blipFill>
        <p:spPr>
          <a:xfrm>
            <a:off x="-3240" y="-27000"/>
            <a:ext cx="9147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59:42Z</dcterms:created>
  <dc:creator>DEll</dc:creator>
  <dc:description/>
  <dc:language>en-US</dc:language>
  <cp:lastModifiedBy>DEll</cp:lastModifiedBy>
  <dcterms:modified xsi:type="dcterms:W3CDTF">2011-05-26T07:54:47Z</dcterms:modified>
  <cp:revision>1</cp:revision>
  <dc:subject/>
  <dc:title>PowerPoint Presentation</dc:title>
</cp:coreProperties>
</file>