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42C-7280-4268-B6BF-02C805A2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9DD-4769-4450-9C4A-F8DF6002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09A-113E-4D97-A2AC-63567FAD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200-24FD-40C8-97A1-34B400ED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FCA-F14F-4907-A4F0-E4CFD10E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FC7-29C9-451D-B980-D1C815F0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C1E-3F7A-4D47-B986-B8F0A16F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D63-CC6D-4E23-B021-DBB2667C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E45-3974-485A-85EF-05DAA082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118-B263-430A-92C8-55463F3F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72C-69A8-4F21-80BC-56AE6C73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6F5-739E-49AA-AE7F-E5A5E6C0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CE8C7-418A-4CD6-B7DC-995EDFE92C5C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6:51:09Z</dcterms:created>
  <dc:creator>Ing Ming Loh</dc:creator>
  <dc:description/>
  <dc:language>en-US</dc:language>
  <cp:lastModifiedBy>Ing Ming Loh</cp:lastModifiedBy>
  <dcterms:modified xsi:type="dcterms:W3CDTF">2018-10-12T06:52:00Z</dcterms:modified>
  <cp:revision>1</cp:revision>
  <dc:subject/>
  <dc:title>PowerPoint Presentation</dc:title>
</cp:coreProperties>
</file>