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DAF-4DD6-40D7-B3B9-4E1A334E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43F-075E-413F-AF5C-260D19BF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255-B11E-4398-8F8E-F8459A9F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5272-7D84-45CF-B020-11269AFF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C39-D8B8-4872-AF2C-30667675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5E8-6ADB-4177-9C5E-92D9CC5C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98D-4AC8-45EE-A2BF-27CEBCC4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10A-305C-45AD-8BAC-CBFD576F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5E4-16C5-4977-A9BB-01D3899B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4AE-E90C-4446-A671-E94DDD22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EFF-9FC4-4279-9EB2-05DE5906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0A8A-8AA7-4F14-A5DF-F9886ED6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72240-6A98-4C92-AE66-73450B1B11A3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6:55:24Z</dcterms:created>
  <dc:creator>Ing Ming Loh</dc:creator>
  <dc:description/>
  <dc:language>en-US</dc:language>
  <cp:lastModifiedBy>Ing Ming Loh</cp:lastModifiedBy>
  <dcterms:modified xsi:type="dcterms:W3CDTF">2018-10-12T06:55:56Z</dcterms:modified>
  <cp:revision>1</cp:revision>
  <dc:subject/>
  <dc:title>PowerPoint Presentation</dc:title>
</cp:coreProperties>
</file>