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E3C-4C54-44CC-8A00-D5EFF6F2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E6B-DC51-43E4-8537-19C735E0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F2F-1651-4447-A920-EEFB476E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EFA-58C8-40AD-A938-51F90CC5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9A7-3A9D-41EC-9722-E353F434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5BF-C80F-4021-97F1-75192B4A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99D-AB5A-4C61-A2CB-CC15F158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87E-B451-43E0-8BFC-05E21454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522-C277-4DA5-A637-9FC4B61E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77A-4EBB-4E4C-A095-986EBC7D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10F-4CB9-4986-99E4-137C7351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57E-C63C-4EDC-A3D2-5F159AAB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17EB-067C-49CE-8BB6-939E97AB0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D:\JPG pu song\pu song 372a copy.jpg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JPG pu song\pu song 372b copy.jpg"/>
          <p:cNvPicPr/>
          <p:nvPr/>
        </p:nvPicPr>
        <p:blipFill>
          <a:blip r:embed="rId1"/>
          <a:stretch/>
        </p:blipFill>
        <p:spPr>
          <a:xfrm>
            <a:off x="1052640" y="685800"/>
            <a:ext cx="7038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JPG pu song\pu song 372c copy.jpg"/>
          <p:cNvPicPr/>
          <p:nvPr/>
        </p:nvPicPr>
        <p:blipFill>
          <a:blip r:embed="rId1"/>
          <a:stretch/>
        </p:blipFill>
        <p:spPr>
          <a:xfrm>
            <a:off x="1001880" y="609480"/>
            <a:ext cx="71402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D:\JPG pu song\pu song 372d copy.jpg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JPG pu song\pu song 372e copy.jpg"/>
          <p:cNvPicPr/>
          <p:nvPr/>
        </p:nvPicPr>
        <p:blipFill>
          <a:blip r:embed="rId1"/>
          <a:stretch/>
        </p:blipFill>
        <p:spPr>
          <a:xfrm>
            <a:off x="1001880" y="609480"/>
            <a:ext cx="71402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07:46:57Z</dcterms:created>
  <dc:creator>celester</dc:creator>
  <dc:description/>
  <dc:language>en-US</dc:language>
  <cp:lastModifiedBy>Ing Ming Loh</cp:lastModifiedBy>
  <dcterms:modified xsi:type="dcterms:W3CDTF">2018-10-12T06:57:41Z</dcterms:modified>
  <cp:revision>1</cp:revision>
  <dc:subject/>
  <dc:title>PowerPoint Presentation</dc:title>
</cp:coreProperties>
</file>