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4DA-D452-4B0E-B61B-F267E493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DFC-0734-4E7B-AB7F-26D8A6AA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E72-9B72-4B61-A85E-1FDA6846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2E3-0521-4D8A-9E7C-68114A81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CE7-8B30-4A47-BFA9-3AD0FF1C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D4F5-5735-42A2-B8D6-F62E80B4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3E4-47A4-4C44-9960-F12884C2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A51-EFD3-487D-88CD-5092B282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F1E-549E-4948-91D0-FBFF749E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E52-BF33-450C-A40A-8392E62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535-7ED7-4001-B4C6-B86DE3A6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308-6A83-4EF6-B1C8-7DA5FDCE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D1D22-7603-473C-851A-96B46D7DC032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6:59:31Z</dcterms:created>
  <dc:creator>Ing Ming Loh</dc:creator>
  <dc:description/>
  <dc:language>en-US</dc:language>
  <cp:lastModifiedBy>Ing Ming Loh</cp:lastModifiedBy>
  <dcterms:modified xsi:type="dcterms:W3CDTF">2018-10-12T07:00:08Z</dcterms:modified>
  <cp:revision>1</cp:revision>
  <dc:subject/>
  <dc:title>PowerPoint Presentation</dc:title>
</cp:coreProperties>
</file>