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CC54-38A9-4BFF-A719-245421DEF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5EB7-1592-45EA-86E8-C78992043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3C91-1FA9-441A-AABE-A3699B826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F5FE-66C4-4509-B44A-040986A49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9E7D-2188-4D20-8363-38D4DFDBA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715A-2605-4DF8-8783-243BD44B2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88EF-4B0D-408A-80EA-E351E015A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1033-7920-4563-A732-7E6CB94F5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4FAC-E580-47D5-8A9F-B48731DD7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E977-B282-45BA-A6BB-78AEF823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C6B6-342E-436D-A0C3-14F54BC6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099A-DF64-400C-A360-52EA213D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0717B-6646-4CA2-97B3-521425E036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44520" y="1904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s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s02"/>
          <p:cNvPicPr/>
          <p:nvPr/>
        </p:nvPicPr>
        <p:blipFill>
          <a:blip r:embed="rId1"/>
          <a:stretch/>
        </p:blipFill>
        <p:spPr>
          <a:xfrm>
            <a:off x="-34920" y="0"/>
            <a:ext cx="9178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s03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s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07:01:59Z</dcterms:created>
  <dc:creator>DEll</dc:creator>
  <dc:description/>
  <dc:language>en-US</dc:language>
  <cp:lastModifiedBy>DEll</cp:lastModifiedBy>
  <dcterms:modified xsi:type="dcterms:W3CDTF">2011-05-26T07:54:38Z</dcterms:modified>
  <cp:revision>1</cp:revision>
  <dc:subject/>
  <dc:title>PowerPoint Presentation</dc:title>
</cp:coreProperties>
</file>