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0756-B273-48F1-BCBB-CD6925AD6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41E9-CCAF-4FE7-A44C-A1D72B3F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0DE9-273F-4EC7-9686-540AA2DB6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632C-8C6B-417C-A410-FCDC722E1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6426-8AC3-4E33-8CAE-AB209142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0CD5-7653-452C-8B33-9396DD25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D6DF-D60C-4E76-8D93-F40CFE9F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F1C1-2550-4C46-B1A8-CD02283C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3A63-C3CE-42BF-B9C1-DBFDB159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8BD6-9114-4020-BBD4-1CD3D222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AF0F-9269-4BD4-B16B-71087DF1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9071-2D18-4818-A444-53C5636B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6946-2CB1-4A83-A656-3B382C6C56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d17"/>
          <p:cNvPicPr/>
          <p:nvPr/>
        </p:nvPicPr>
        <p:blipFill>
          <a:blip r:embed="rId1"/>
          <a:stretch/>
        </p:blipFill>
        <p:spPr>
          <a:xfrm>
            <a:off x="17640" y="0"/>
            <a:ext cx="912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19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7:03:54Z</dcterms:created>
  <dc:creator>DEll</dc:creator>
  <dc:description/>
  <dc:language>en-US</dc:language>
  <cp:lastModifiedBy>DEll</cp:lastModifiedBy>
  <dcterms:modified xsi:type="dcterms:W3CDTF">2011-05-26T07:54:28Z</dcterms:modified>
  <cp:revision>1</cp:revision>
  <dc:subject/>
  <dc:title>PowerPoint Presentation</dc:title>
</cp:coreProperties>
</file>