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6FD-7A95-4343-B00E-C7B71352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DA5-6891-40C5-96CD-8AACADBC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11B-95EA-426C-92A6-762B3984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4E6-B00D-42B4-AA1E-0FD064B0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17D-E432-461B-9357-8D2A1714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6BE-1768-491E-B309-D4136AAC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5D0-EB33-4EFE-851A-4C7732F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271-5089-4D2B-B934-DD88FB2B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477-65CF-4AD5-9BDA-E69784D5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B2C-6709-488D-B5EC-B39F0CFB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B44-D327-4D2D-8978-12E6A300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663-991C-4D26-AFA6-DDA57110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E744-FC76-4533-89CD-C6495F511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D:\JPG pu song\pu song 376a.JPG"/>
          <p:cNvPicPr/>
          <p:nvPr/>
        </p:nvPicPr>
        <p:blipFill>
          <a:blip r:embed="rId1"/>
          <a:stretch/>
        </p:blipFill>
        <p:spPr>
          <a:xfrm>
            <a:off x="-784080" y="-366840"/>
            <a:ext cx="10713960" cy="75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JPG pu song\pu song 376b.JPG"/>
          <p:cNvPicPr/>
          <p:nvPr/>
        </p:nvPicPr>
        <p:blipFill>
          <a:blip r:embed="rId1"/>
          <a:stretch/>
        </p:blipFill>
        <p:spPr>
          <a:xfrm>
            <a:off x="619200" y="533520"/>
            <a:ext cx="7905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JPG pu song\pu song 376c.JPG"/>
          <p:cNvPicPr/>
          <p:nvPr/>
        </p:nvPicPr>
        <p:blipFill>
          <a:blip r:embed="rId1"/>
          <a:stretch/>
        </p:blipFill>
        <p:spPr>
          <a:xfrm>
            <a:off x="674640" y="609480"/>
            <a:ext cx="7794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JPG pu song\pu song 376d.JPG"/>
          <p:cNvPicPr/>
          <p:nvPr/>
        </p:nvPicPr>
        <p:blipFill>
          <a:blip r:embed="rId1"/>
          <a:stretch/>
        </p:blipFill>
        <p:spPr>
          <a:xfrm>
            <a:off x="682560" y="609480"/>
            <a:ext cx="77788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8:01:14Z</dcterms:created>
  <dc:creator>celester</dc:creator>
  <dc:description/>
  <dc:language>en-US</dc:language>
  <cp:lastModifiedBy>Ing Ming Loh</cp:lastModifiedBy>
  <dcterms:modified xsi:type="dcterms:W3CDTF">2018-10-12T07:10:43Z</dcterms:modified>
  <cp:revision>1</cp:revision>
  <dc:subject/>
  <dc:title>PowerPoint Presentation</dc:title>
</cp:coreProperties>
</file>