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B1C9-F78E-4A57-A6AC-69FE9D570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727F-89E5-4110-9316-5097D606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DDDB-1D7E-4CB1-B093-483075818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BE0B-80F1-479F-B7B3-8562AA130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E57F-888F-4793-8C5F-CB0C2269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3651-D160-45B2-BEEE-00389C00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078A-0E15-40A5-86FF-1FAF1FE4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1DF9-9A00-402F-A3AE-D37B08D2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6064-5D1B-4579-8507-C32EADEB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DE24-78DD-4A0C-811F-041AA41F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5295-5135-414E-A4B1-6500494B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5572-1DEB-4575-8BDA-6DF901C8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F31FE4-684B-409E-B29D-EF4DFC06AAFA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2T07:14:28Z</dcterms:created>
  <dc:creator>Ing Ming Loh</dc:creator>
  <dc:description/>
  <dc:language>en-US</dc:language>
  <cp:lastModifiedBy>Ing Ming Loh</cp:lastModifiedBy>
  <dcterms:modified xsi:type="dcterms:W3CDTF">2018-10-12T07:15:01Z</dcterms:modified>
  <cp:revision>1</cp:revision>
  <dc:subject/>
  <dc:title>PowerPoint Presentation</dc:title>
</cp:coreProperties>
</file>