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F22-4390-4F22-B59D-B9B09D6A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76A-F76C-4C70-A799-CCF078B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FD5-D9B4-4A3D-B472-F5EE5C39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AF9-D69C-47AD-858F-B23609DF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BD4-1415-4F9C-8E80-207ED648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BB9-A6CF-4675-8377-D1E7FA38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F48-783E-45A9-8B50-E8BD6DF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D54-724E-4E7F-B334-A993131D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CE7-F724-4894-9481-54C64B06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44DE-DD71-436B-9AD2-B90EDB3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870-201D-4ADA-A19E-DC23ACD6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31C-18CE-49A9-8A43-6D9D62D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C5CBA-8FD4-41A4-8144-703C43D07E7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7:16:37Z</dcterms:created>
  <dc:creator>Ing Ming Loh</dc:creator>
  <dc:description/>
  <dc:language>en-US</dc:language>
  <cp:lastModifiedBy>Ing Ming Loh</cp:lastModifiedBy>
  <dcterms:modified xsi:type="dcterms:W3CDTF">2018-10-12T07:17:06Z</dcterms:modified>
  <cp:revision>1</cp:revision>
  <dc:subject/>
  <dc:title>PowerPoint Presentation</dc:title>
</cp:coreProperties>
</file>