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1F5-26FE-4577-8C86-A97CC882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210-690F-4CDE-A018-18E548EE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822-42E8-43B3-B794-E9B4CC37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269-F949-4AB2-A919-E43A7C7E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673-C1BC-41F0-9AEF-EFD99011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35B-9473-4767-8AB3-8CBE86B0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952-B8FB-477F-A862-0A5DA15B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7EB-7BE4-4415-AB46-5BA6F21D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CAD-82DC-4FEC-A42E-A8A5A136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D23-C624-4F4C-A9AE-0A0D98BE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F08-6B86-4148-B876-51B67AAC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3AA-1A58-44BC-B873-568D9DA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F0781-032D-400F-A586-7199DC50EA4B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7:18:41Z</dcterms:created>
  <dc:creator>Ing Ming Loh</dc:creator>
  <dc:description/>
  <dc:language>en-US</dc:language>
  <cp:lastModifiedBy>Ing Ming Loh</cp:lastModifiedBy>
  <dcterms:modified xsi:type="dcterms:W3CDTF">2018-10-12T07:19:06Z</dcterms:modified>
  <cp:revision>1</cp:revision>
  <dc:subject/>
  <dc:title>PowerPoint Presentation</dc:title>
</cp:coreProperties>
</file>