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D14-BDDC-4D30-925B-35828334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421-E711-419A-B352-66E200B8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0F0-63B1-4A74-A719-C8E9AE05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6B2-EA83-4A43-84EE-CDDAECCF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A15-1E41-4CFF-9BC4-DE80C50D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438-5627-4CA4-A0EB-14180F49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5F3-7A12-43D5-91F5-717DA1FE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C1E-B75A-4449-AED6-FE2D41FD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E08-6491-4228-AE99-189D5CF1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655-B548-494B-9269-5FC66093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BD2-1CF3-45E2-81A2-F0E7953B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072-27AB-48C2-8D0F-1E74CE4E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94E4-6DE7-40D0-A4C8-842C60174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z1"/>
          <p:cNvPicPr/>
          <p:nvPr/>
        </p:nvPicPr>
        <p:blipFill>
          <a:blip r:embed="rId1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z2"/>
          <p:cNvPicPr/>
          <p:nvPr/>
        </p:nvPicPr>
        <p:blipFill>
          <a:blip r:embed="rId1"/>
          <a:stretch/>
        </p:blipFill>
        <p:spPr>
          <a:xfrm>
            <a:off x="549360" y="1279440"/>
            <a:ext cx="68101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8"/>
          <p:cNvPicPr/>
          <p:nvPr/>
        </p:nvPicPr>
        <p:blipFill>
          <a:blip r:embed="rId1"/>
          <a:stretch/>
        </p:blipFill>
        <p:spPr>
          <a:xfrm>
            <a:off x="549360" y="1279440"/>
            <a:ext cx="64292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z4"/>
          <p:cNvPicPr/>
          <p:nvPr/>
        </p:nvPicPr>
        <p:blipFill>
          <a:blip r:embed="rId1"/>
          <a:stretch/>
        </p:blipFill>
        <p:spPr>
          <a:xfrm>
            <a:off x="549360" y="1279440"/>
            <a:ext cx="6181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11:09Z</dcterms:created>
  <dc:creator>DEll</dc:creator>
  <dc:description/>
  <dc:language>en-US</dc:language>
  <cp:lastModifiedBy>DEll</cp:lastModifiedBy>
  <dcterms:modified xsi:type="dcterms:W3CDTF">2011-05-26T07:54:05Z</dcterms:modified>
  <cp:revision>1</cp:revision>
  <dc:subject/>
  <dc:title>PowerPoint Presentation</dc:title>
</cp:coreProperties>
</file>