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BD5-948D-48C1-BEFD-FAF66617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E1B-E784-4E46-BB4D-D0EC5C0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250-E4FE-4FE1-A291-073770E5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88A-3526-4F9D-ACDD-3928E66F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FEF-651B-405E-838B-98507A71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929-A26A-4F7F-B49C-DF37EB0E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4EB-C2D8-4742-9FEB-390E76E2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797-5A0B-446D-BB61-7B7E0C28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DBC-BA50-4632-B388-2C1B1F70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822-99D9-4A01-A494-DDCA6297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FAB-12AE-4B41-974A-654A8018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9AD-3ECB-4993-B321-36CCD86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0A58A-F4D7-40A0-A72C-2FC2A2C0FC6D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7:32:24Z</dcterms:created>
  <dc:creator>Ing Ming Loh</dc:creator>
  <dc:description/>
  <dc:language>en-US</dc:language>
  <cp:lastModifiedBy>Ing Ming Loh</cp:lastModifiedBy>
  <dcterms:modified xsi:type="dcterms:W3CDTF">2018-10-12T07:32:51Z</dcterms:modified>
  <cp:revision>1</cp:revision>
  <dc:subject/>
  <dc:title>PowerPoint Presentation</dc:title>
</cp:coreProperties>
</file>