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727-0C64-4EC4-979F-91255554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644-3611-4C66-A4DB-CC7D222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1B6-786C-4032-A330-9BC64F94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479-150A-496B-96E8-21C35286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14B-BA37-4D04-B358-C08A4EE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73B-03B8-4EEE-868F-3719B6D7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848-F05B-4223-97ED-24B0FA93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249-3F11-4668-90EB-5089B83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108-70F2-4E57-B587-9155A4D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D6F-0E61-43FA-BCC6-95F0D99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323-9B18-4013-A1AC-AE102D9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629-D23E-403B-9406-715C9C1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537-112C-42DB-B050-607C96AFE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z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14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z16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z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16:20Z</dcterms:created>
  <dc:creator>DEll</dc:creator>
  <dc:description/>
  <dc:language>en-US</dc:language>
  <cp:lastModifiedBy>DEll</cp:lastModifiedBy>
  <dcterms:modified xsi:type="dcterms:W3CDTF">2011-05-26T07:53:04Z</dcterms:modified>
  <cp:revision>1</cp:revision>
  <dc:subject/>
  <dc:title>PowerPoint Presentation</dc:title>
</cp:coreProperties>
</file>